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03B-3E70-4244-9293-3F1909C4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C19-51DA-48DE-AFFD-99C42862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AAC-6E22-4CB2-9ADE-48B7E83A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6A7-B30A-4097-9C88-915D025C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E4A-74BD-46A4-95E7-4B3E811A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DB3-4549-4B2D-8F86-C85295C7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F40-83CA-4D12-A691-0E5DAFE3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BE3-9907-4064-B517-433D921E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359-EB78-48D2-8049-34643D04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EDE-CFEF-42E8-89C5-0810927E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697-1A25-4A23-AD04-818D1D98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EC6-8A89-4321-8F65-A1DE4F17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1D10-91D0-4F8D-B8ED-A94B267C0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Нот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добавочной линейк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о» сидит, как на скамей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8" descr="До - копия.jpg"/>
          <p:cNvPicPr/>
          <p:nvPr/>
        </p:nvPicPr>
        <p:blipFill>
          <a:blip r:embed="rId1"/>
          <a:stretch/>
        </p:blipFill>
        <p:spPr>
          <a:xfrm>
            <a:off x="826920" y="1557360"/>
            <a:ext cx="7812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7786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же всех под нотоносцем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елилась нота «Ре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ычит на всех сердит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то Рексик в кон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3" descr="До, ре.jpg"/>
          <p:cNvPicPr/>
          <p:nvPr/>
        </p:nvPicPr>
        <p:blipFill>
          <a:blip r:embed="rId1"/>
          <a:stretch/>
        </p:blipFill>
        <p:spPr>
          <a:xfrm>
            <a:off x="900000" y="2205000"/>
            <a:ext cx="7891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5344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линейке перво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та «Ми» живё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ло улыбается. Песенки поё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4" descr="До, ре, ми - копия.jpg"/>
          <p:cNvPicPr/>
          <p:nvPr/>
        </p:nvPicPr>
        <p:blipFill>
          <a:blip r:embed="rId1"/>
          <a:stretch/>
        </p:blipFill>
        <p:spPr>
          <a:xfrm>
            <a:off x="900000" y="2421000"/>
            <a:ext cx="77612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ты До, Ре, 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До, ре, ми - цветн. - копия.jpg"/>
          <p:cNvPicPr/>
          <p:nvPr/>
        </p:nvPicPr>
        <p:blipFill>
          <a:blip r:embed="rId1"/>
          <a:stretch/>
        </p:blipFill>
        <p:spPr>
          <a:xfrm>
            <a:off x="900000" y="2048040"/>
            <a:ext cx="770436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07:47:17Z</dcterms:created>
  <dc:creator>Admin</dc:creator>
  <dc:description/>
  <dc:language>en-US</dc:language>
  <cp:lastModifiedBy>Анна</cp:lastModifiedBy>
  <dcterms:modified xsi:type="dcterms:W3CDTF">2013-06-01T19:21:04Z</dcterms:modified>
  <cp:revision>12</cp:revision>
  <dc:subject/>
  <dc:title>Слайд 1</dc:title>
</cp:coreProperties>
</file>